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1400" y="415620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140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768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360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987120"/>
            <a:ext cx="779616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632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71400" y="415620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632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140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0768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360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52280" y="987120"/>
            <a:ext cx="779616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632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71400" y="415620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632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7140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0768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360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2280" y="987120"/>
            <a:ext cx="779616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632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71400" y="415620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632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7140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0768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360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987120"/>
            <a:ext cx="779616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oundRect">
            <a:avLst>
              <a:gd name="adj" fmla="val 120"/>
            </a:avLst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400800"/>
            <a:ext cx="8763120" cy="1440"/>
          </a:xfrm>
          <a:prstGeom prst="line">
            <a:avLst/>
          </a:prstGeom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96920" y="6404040"/>
            <a:ext cx="1174680" cy="45396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7086600" y="6467400"/>
            <a:ext cx="1716120" cy="270720"/>
            <a:chOff x="7086600" y="6467400"/>
            <a:chExt cx="1716120" cy="270720"/>
          </a:xfrm>
        </p:grpSpPr>
        <p:sp>
          <p:nvSpPr>
            <p:cNvPr id="4" name=""/>
            <p:cNvSpPr/>
            <p:nvPr/>
          </p:nvSpPr>
          <p:spPr>
            <a:xfrm>
              <a:off x="7086600" y="6467400"/>
              <a:ext cx="1716120" cy="189000"/>
            </a:xfrm>
            <a:prstGeom prst="roundRect">
              <a:avLst>
                <a:gd name="adj" fmla="val 8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086600" y="6467400"/>
              <a:ext cx="171612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</a:rPr>
                <a:t>www.appsecinc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692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523880" y="1599840"/>
            <a:ext cx="745488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2" marL="1073160" indent="-228600"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3" marL="1415880" indent="-228600"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4" marL="1758960" indent="-228600"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5" marL="1758960" indent="-22860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6" marL="1758960" indent="-22860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52280" y="5943600"/>
            <a:ext cx="152280" cy="76320"/>
          </a:xfrm>
          <a:prstGeom prst="roundRect">
            <a:avLst>
              <a:gd name="adj" fmla="val 20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116160"/>
            <a:ext cx="9144000" cy="3733920"/>
          </a:xfrm>
          <a:prstGeom prst="roundRect">
            <a:avLst>
              <a:gd name="adj" fmla="val 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52280" y="5935680"/>
            <a:ext cx="152280" cy="76320"/>
          </a:xfrm>
          <a:prstGeom prst="roundRect">
            <a:avLst>
              <a:gd name="adj" fmla="val 20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219320" y="1752480"/>
            <a:ext cx="7369200" cy="441360"/>
            <a:chOff x="1219320" y="1752480"/>
            <a:chExt cx="7369200" cy="441360"/>
          </a:xfrm>
        </p:grpSpPr>
        <p:sp>
          <p:nvSpPr>
            <p:cNvPr id="48" name=""/>
            <p:cNvSpPr/>
            <p:nvPr/>
          </p:nvSpPr>
          <p:spPr>
            <a:xfrm>
              <a:off x="1219320" y="1752480"/>
              <a:ext cx="7369200" cy="42084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19320" y="1752480"/>
              <a:ext cx="73692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0000"/>
                  </a:solidFill>
                  <a:latin typeface="Times New Roman"/>
                </a:rPr>
                <a:t>Briefing f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2236680" cy="86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28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2362320"/>
            <a:ext cx="73785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2" marL="1073160" indent="-228600"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3" marL="1415880" indent="-228600"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4" marL="1758960" indent="-228600"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5" marL="1758960" indent="-22860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6" marL="1758960" indent="-22860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52280" y="5943600"/>
            <a:ext cx="152280" cy="76320"/>
          </a:xfrm>
          <a:prstGeom prst="roundRect">
            <a:avLst>
              <a:gd name="adj" fmla="val 20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116160"/>
            <a:ext cx="9144000" cy="3733920"/>
          </a:xfrm>
          <a:prstGeom prst="roundRect">
            <a:avLst>
              <a:gd name="adj" fmla="val 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152280" y="5935680"/>
            <a:ext cx="152280" cy="76320"/>
          </a:xfrm>
          <a:prstGeom prst="roundRect">
            <a:avLst>
              <a:gd name="adj" fmla="val 20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19320" y="2362320"/>
            <a:ext cx="7380000" cy="1436400"/>
            <a:chOff x="1219320" y="2362320"/>
            <a:chExt cx="7380000" cy="1436400"/>
          </a:xfrm>
        </p:grpSpPr>
        <p:sp>
          <p:nvSpPr>
            <p:cNvPr id="94" name=""/>
            <p:cNvSpPr/>
            <p:nvPr/>
          </p:nvSpPr>
          <p:spPr>
            <a:xfrm>
              <a:off x="1219320" y="2362320"/>
              <a:ext cx="7380000" cy="143640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19320" y="2721960"/>
              <a:ext cx="7380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edit Master title styl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217520" y="4210200"/>
            <a:ext cx="7369200" cy="547200"/>
            <a:chOff x="1217520" y="4210200"/>
            <a:chExt cx="7369200" cy="547200"/>
          </a:xfrm>
        </p:grpSpPr>
        <p:sp>
          <p:nvSpPr>
            <p:cNvPr id="97" name=""/>
            <p:cNvSpPr/>
            <p:nvPr/>
          </p:nvSpPr>
          <p:spPr>
            <a:xfrm>
              <a:off x="1217520" y="4267080"/>
              <a:ext cx="7369200" cy="42228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17520" y="4210200"/>
              <a:ext cx="7369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edit Master subtitle sty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219320" y="1752480"/>
            <a:ext cx="7369200" cy="441360"/>
            <a:chOff x="1219320" y="1752480"/>
            <a:chExt cx="7369200" cy="441360"/>
          </a:xfrm>
        </p:grpSpPr>
        <p:sp>
          <p:nvSpPr>
            <p:cNvPr id="100" name=""/>
            <p:cNvSpPr/>
            <p:nvPr/>
          </p:nvSpPr>
          <p:spPr>
            <a:xfrm>
              <a:off x="1219320" y="1752480"/>
              <a:ext cx="7369200" cy="42084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320" y="1752480"/>
              <a:ext cx="73692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riefing f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2236680" cy="861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280" cy="365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-152280" y="5943600"/>
            <a:ext cx="152280" cy="76320"/>
          </a:xfrm>
          <a:prstGeom prst="roundRect">
            <a:avLst>
              <a:gd name="adj" fmla="val 20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116160"/>
            <a:ext cx="9144000" cy="3733920"/>
          </a:xfrm>
          <a:prstGeom prst="roundRect">
            <a:avLst>
              <a:gd name="adj" fmla="val 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52280" y="5935680"/>
            <a:ext cx="152280" cy="76320"/>
          </a:xfrm>
          <a:prstGeom prst="roundRect">
            <a:avLst>
              <a:gd name="adj" fmla="val 20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19320" y="2362320"/>
            <a:ext cx="7380000" cy="1436400"/>
            <a:chOff x="1219320" y="2362320"/>
            <a:chExt cx="7380000" cy="1436400"/>
          </a:xfrm>
        </p:grpSpPr>
        <p:sp>
          <p:nvSpPr>
            <p:cNvPr id="144" name=""/>
            <p:cNvSpPr/>
            <p:nvPr/>
          </p:nvSpPr>
          <p:spPr>
            <a:xfrm>
              <a:off x="1219320" y="2362320"/>
              <a:ext cx="7380000" cy="143640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19320" y="2721960"/>
              <a:ext cx="7380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edit Master title styl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217520" y="4210200"/>
            <a:ext cx="7369200" cy="547200"/>
            <a:chOff x="1217520" y="4210200"/>
            <a:chExt cx="7369200" cy="547200"/>
          </a:xfrm>
        </p:grpSpPr>
        <p:sp>
          <p:nvSpPr>
            <p:cNvPr id="147" name=""/>
            <p:cNvSpPr/>
            <p:nvPr/>
          </p:nvSpPr>
          <p:spPr>
            <a:xfrm>
              <a:off x="1217520" y="4267080"/>
              <a:ext cx="7369200" cy="42228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17520" y="4210200"/>
              <a:ext cx="7369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edit Master subtitle sty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219320" y="1752480"/>
            <a:ext cx="7369200" cy="441360"/>
            <a:chOff x="1219320" y="1752480"/>
            <a:chExt cx="7369200" cy="441360"/>
          </a:xfrm>
        </p:grpSpPr>
        <p:sp>
          <p:nvSpPr>
            <p:cNvPr id="150" name=""/>
            <p:cNvSpPr/>
            <p:nvPr/>
          </p:nvSpPr>
          <p:spPr>
            <a:xfrm>
              <a:off x="1219320" y="1752480"/>
              <a:ext cx="7369200" cy="42084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1752480"/>
              <a:ext cx="73692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riefing f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2236680" cy="861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28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98712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ysinternals.com/" TargetMode="External"/><Relationship Id="rId2" Type="http://schemas.openxmlformats.org/officeDocument/2006/relationships/hyperlink" Target="http://www.sysinternals.com/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7724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660000"/>
                </a:solidFill>
                <a:latin typeface="Times New Roman"/>
              </a:rPr>
              <a:t>Hacking Windows Interna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11280" y="4149720"/>
            <a:ext cx="74167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404040"/>
                </a:solidFill>
                <a:latin typeface="Tahoma"/>
                <a:ea typeface="MS Gothic"/>
              </a:rPr>
              <a:t>Cesar Cerrudo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404040"/>
                </a:solidFill>
                <a:latin typeface="Tahoma"/>
                <a:ea typeface="MS Gothic"/>
              </a:rPr>
              <a:t>Argenis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39560" y="244440"/>
            <a:ext cx="392760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sing Shared S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4707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Demo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37864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464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Process Explorer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Shows information about processes (dlls, handles, etc.)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WinObj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Shows Object Manager Namespace information (objects info, permissions, etc.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ListS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Lists Shared Sections names (local and TS sessions)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DumpS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umps Shared Section data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TestS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Overwrites Shared Section data (to detect bugs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Input validation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Weak permission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Synchronization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47072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Input validation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pplications don't perform data validation before using the data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073160" indent="-228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Applications trust data on shared sections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When applications read modified data from shared sections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073160" indent="-228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They will crash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2" marL="1073160" indent="-228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They will perform unexpected actions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47072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Weak permission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Low privileged users can access (read/write/change permissions) shared sections on high privileged processes (services)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erminal Services (maybe Citrix) users can access (read/write/change permissions) shared sections on local logged on user processes, services and also on other user sessions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47108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Synchronization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Not built-in synchronization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Synchronization must be done by processes in order to not corrupt data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re isn't a mechanism to force processes to synchronize or to block shared section access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ny process (with proper rights) can alter a shared section data while another process is using it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47072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Synchronization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Communication between Process A and B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6520" y="2990880"/>
            <a:ext cx="961920" cy="1022400"/>
            <a:chOff x="506520" y="2990880"/>
            <a:chExt cx="961920" cy="1022400"/>
          </a:xfrm>
        </p:grpSpPr>
        <p:sp>
          <p:nvSpPr>
            <p:cNvPr id="226" name=""/>
            <p:cNvSpPr/>
            <p:nvPr/>
          </p:nvSpPr>
          <p:spPr>
            <a:xfrm>
              <a:off x="506520" y="2990880"/>
              <a:ext cx="961920" cy="1022400"/>
            </a:xfrm>
            <a:custGeom>
              <a:avLst/>
              <a:gdLst>
                <a:gd name="textAreaLeft" fmla="*/ 360 w 961920"/>
                <a:gd name="textAreaRight" fmla="*/ 961560 w 961920"/>
                <a:gd name="textAreaTop" fmla="*/ 360 h 1022400"/>
                <a:gd name="textAreaBottom" fmla="*/ 1022040 h 1022400"/>
              </a:gdLst>
              <a:ahLst/>
              <a:rect l="textAreaLeft" t="textAreaTop" r="textAreaRight" b="textAreaBottom"/>
              <a:pathLst>
                <a:path w="21600" h="22958">
                  <a:moveTo>
                    <a:pt x="35" y="0"/>
                  </a:moveTo>
                  <a:arcTo wR="35" hR="35" stAng="16200000" swAng="-5400000"/>
                  <a:lnTo>
                    <a:pt x="0" y="22923"/>
                  </a:lnTo>
                  <a:arcTo wR="35" hR="35" stAng="10800000" swAng="-5400000"/>
                  <a:lnTo>
                    <a:pt x="21565" y="22958"/>
                  </a:lnTo>
                  <a:arcTo wR="35" hR="35" stAng="5400000" swAng="-5400000"/>
                  <a:lnTo>
                    <a:pt x="21600" y="35"/>
                  </a:lnTo>
                  <a:arcTo wR="35" hR="35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506520" y="2990880"/>
              <a:ext cx="955440" cy="1015920"/>
              <a:chOff x="506520" y="2990880"/>
              <a:chExt cx="955440" cy="1015920"/>
            </a:xfrm>
          </p:grpSpPr>
          <p:sp>
            <p:nvSpPr>
              <p:cNvPr id="228" name=""/>
              <p:cNvSpPr/>
              <p:nvPr/>
            </p:nvSpPr>
            <p:spPr>
              <a:xfrm>
                <a:off x="506520" y="2990880"/>
                <a:ext cx="955440" cy="1015920"/>
              </a:xfrm>
              <a:custGeom>
                <a:avLst/>
                <a:gdLst>
                  <a:gd name="textAreaLeft" fmla="*/ 360 w 955440"/>
                  <a:gd name="textAreaRight" fmla="*/ 955080 w 955440"/>
                  <a:gd name="textAreaTop" fmla="*/ 360 h 1015920"/>
                  <a:gd name="textAreaBottom" fmla="*/ 1015560 h 1015920"/>
                </a:gdLst>
                <a:ahLst/>
                <a:rect l="textAreaLeft" t="textAreaTop" r="textAreaRight" b="textAreaBottom"/>
                <a:pathLst>
                  <a:path w="21600" h="22967">
                    <a:moveTo>
                      <a:pt x="35" y="0"/>
                    </a:moveTo>
                    <a:arcTo wR="35" hR="35" stAng="16200000" swAng="-5400000"/>
                    <a:lnTo>
                      <a:pt x="0" y="22932"/>
                    </a:lnTo>
                    <a:arcTo wR="35" hR="35" stAng="10800000" swAng="-5400000"/>
                    <a:lnTo>
                      <a:pt x="21565" y="22967"/>
                    </a:lnTo>
                    <a:arcTo wR="35" hR="35" stAng="5400000" swAng="-5400000"/>
                    <a:lnTo>
                      <a:pt x="21600" y="35"/>
                    </a:lnTo>
                    <a:arcTo wR="35" hR="3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6520" y="3040200"/>
                <a:ext cx="955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Proc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7812000" y="3127320"/>
            <a:ext cx="992160" cy="1022400"/>
            <a:chOff x="7812000" y="3127320"/>
            <a:chExt cx="992160" cy="1022400"/>
          </a:xfrm>
        </p:grpSpPr>
        <p:sp>
          <p:nvSpPr>
            <p:cNvPr id="231" name=""/>
            <p:cNvSpPr/>
            <p:nvPr/>
          </p:nvSpPr>
          <p:spPr>
            <a:xfrm>
              <a:off x="7812000" y="3127320"/>
              <a:ext cx="992160" cy="1022400"/>
            </a:xfrm>
            <a:custGeom>
              <a:avLst/>
              <a:gdLst>
                <a:gd name="textAreaLeft" fmla="*/ 360 w 992160"/>
                <a:gd name="textAreaRight" fmla="*/ 991800 w 992160"/>
                <a:gd name="textAreaTop" fmla="*/ 360 h 1022400"/>
                <a:gd name="textAreaBottom" fmla="*/ 1022040 h 1022400"/>
              </a:gdLst>
              <a:ahLst/>
              <a:rect l="textAreaLeft" t="textAreaTop" r="textAreaRight" b="textAreaBottom"/>
              <a:pathLst>
                <a:path w="21600" h="22258">
                  <a:moveTo>
                    <a:pt x="34" y="0"/>
                  </a:moveTo>
                  <a:arcTo wR="34" hR="34" stAng="16200000" swAng="-5400000"/>
                  <a:lnTo>
                    <a:pt x="0" y="22224"/>
                  </a:lnTo>
                  <a:arcTo wR="34" hR="34" stAng="10800000" swAng="-5400000"/>
                  <a:lnTo>
                    <a:pt x="21566" y="22258"/>
                  </a:lnTo>
                  <a:arcTo wR="34" hR="34" stAng="5400000" swAng="-5400000"/>
                  <a:lnTo>
                    <a:pt x="21600" y="34"/>
                  </a:lnTo>
                  <a:arcTo wR="34" hR="34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812000" y="3127320"/>
              <a:ext cx="986040" cy="1015920"/>
              <a:chOff x="7812000" y="3127320"/>
              <a:chExt cx="986040" cy="1015920"/>
            </a:xfrm>
          </p:grpSpPr>
          <p:sp>
            <p:nvSpPr>
              <p:cNvPr id="233" name=""/>
              <p:cNvSpPr/>
              <p:nvPr/>
            </p:nvSpPr>
            <p:spPr>
              <a:xfrm>
                <a:off x="7812000" y="3127320"/>
                <a:ext cx="986040" cy="1015920"/>
              </a:xfrm>
              <a:custGeom>
                <a:avLst/>
                <a:gdLst>
                  <a:gd name="textAreaLeft" fmla="*/ 360 w 986040"/>
                  <a:gd name="textAreaRight" fmla="*/ 985680 w 986040"/>
                  <a:gd name="textAreaTop" fmla="*/ 360 h 1015920"/>
                  <a:gd name="textAreaBottom" fmla="*/ 1015560 h 1015920"/>
                </a:gdLst>
                <a:ahLst/>
                <a:rect l="textAreaLeft" t="textAreaTop" r="textAreaRight" b="textAreaBottom"/>
                <a:pathLst>
                  <a:path w="21600" h="22254">
                    <a:moveTo>
                      <a:pt x="34" y="0"/>
                    </a:moveTo>
                    <a:arcTo wR="34" hR="34" stAng="16200000" swAng="-5400000"/>
                    <a:lnTo>
                      <a:pt x="0" y="22220"/>
                    </a:lnTo>
                    <a:arcTo wR="34" hR="34" stAng="10800000" swAng="-5400000"/>
                    <a:lnTo>
                      <a:pt x="21566" y="22254"/>
                    </a:lnTo>
                    <a:arcTo wR="34" hR="34" stAng="5400000" swAng="-5400000"/>
                    <a:lnTo>
                      <a:pt x="21600" y="34"/>
                    </a:lnTo>
                    <a:arcTo wR="34" hR="34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12000" y="3175920"/>
                <a:ext cx="986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Proc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3995640" y="5324400"/>
            <a:ext cx="998640" cy="1022400"/>
            <a:chOff x="3995640" y="5324400"/>
            <a:chExt cx="998640" cy="1022400"/>
          </a:xfrm>
        </p:grpSpPr>
        <p:sp>
          <p:nvSpPr>
            <p:cNvPr id="236" name=""/>
            <p:cNvSpPr/>
            <p:nvPr/>
          </p:nvSpPr>
          <p:spPr>
            <a:xfrm>
              <a:off x="3995640" y="5324400"/>
              <a:ext cx="998640" cy="1022400"/>
            </a:xfrm>
            <a:custGeom>
              <a:avLst/>
              <a:gdLst>
                <a:gd name="textAreaLeft" fmla="*/ 360 w 998640"/>
                <a:gd name="textAreaRight" fmla="*/ 998280 w 998640"/>
                <a:gd name="textAreaTop" fmla="*/ 360 h 1022400"/>
                <a:gd name="textAreaBottom" fmla="*/ 1022040 h 1022400"/>
              </a:gdLst>
              <a:ahLst/>
              <a:rect l="textAreaLeft" t="textAreaTop" r="textAreaRight" b="textAreaBottom"/>
              <a:pathLst>
                <a:path w="21600" h="22114">
                  <a:moveTo>
                    <a:pt x="34" y="0"/>
                  </a:moveTo>
                  <a:arcTo wR="34" hR="34" stAng="16200000" swAng="-5400000"/>
                  <a:lnTo>
                    <a:pt x="0" y="22080"/>
                  </a:lnTo>
                  <a:arcTo wR="34" hR="34" stAng="10800000" swAng="-5400000"/>
                  <a:lnTo>
                    <a:pt x="21566" y="22114"/>
                  </a:lnTo>
                  <a:arcTo wR="34" hR="34" stAng="5400000" swAng="-5400000"/>
                  <a:lnTo>
                    <a:pt x="21600" y="34"/>
                  </a:lnTo>
                  <a:arcTo wR="34" hR="34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3995640" y="5324400"/>
              <a:ext cx="992160" cy="1015920"/>
              <a:chOff x="3995640" y="5324400"/>
              <a:chExt cx="992160" cy="1015920"/>
            </a:xfrm>
          </p:grpSpPr>
          <p:sp>
            <p:nvSpPr>
              <p:cNvPr id="238" name=""/>
              <p:cNvSpPr/>
              <p:nvPr/>
            </p:nvSpPr>
            <p:spPr>
              <a:xfrm>
                <a:off x="3995640" y="5324400"/>
                <a:ext cx="992160" cy="1015920"/>
              </a:xfrm>
              <a:custGeom>
                <a:avLst/>
                <a:gdLst>
                  <a:gd name="textAreaLeft" fmla="*/ 360 w 992160"/>
                  <a:gd name="textAreaRight" fmla="*/ 991800 w 992160"/>
                  <a:gd name="textAreaTop" fmla="*/ 360 h 1015920"/>
                  <a:gd name="textAreaBottom" fmla="*/ 1015560 h 1015920"/>
                </a:gdLst>
                <a:ahLst/>
                <a:rect l="textAreaLeft" t="textAreaTop" r="textAreaRight" b="textAreaBottom"/>
                <a:pathLst>
                  <a:path w="21600" h="22117">
                    <a:moveTo>
                      <a:pt x="34" y="0"/>
                    </a:moveTo>
                    <a:arcTo wR="34" hR="34" stAng="16200000" swAng="-5400000"/>
                    <a:lnTo>
                      <a:pt x="0" y="22083"/>
                    </a:lnTo>
                    <a:arcTo wR="34" hR="34" stAng="10800000" swAng="-5400000"/>
                    <a:lnTo>
                      <a:pt x="21566" y="22117"/>
                    </a:lnTo>
                    <a:arcTo wR="34" hR="34" stAng="5400000" swAng="-5400000"/>
                    <a:lnTo>
                      <a:pt x="21600" y="34"/>
                    </a:lnTo>
                    <a:arcTo wR="34" hR="34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95640" y="5373720"/>
                <a:ext cx="9921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Proc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3672000" y="3660120"/>
            <a:ext cx="1755720" cy="642600"/>
            <a:chOff x="3672000" y="3660120"/>
            <a:chExt cx="1755720" cy="642600"/>
          </a:xfrm>
        </p:grpSpPr>
        <p:sp>
          <p:nvSpPr>
            <p:cNvPr id="241" name=""/>
            <p:cNvSpPr/>
            <p:nvPr/>
          </p:nvSpPr>
          <p:spPr>
            <a:xfrm>
              <a:off x="3672000" y="3797280"/>
              <a:ext cx="1755720" cy="37476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672000" y="3660120"/>
              <a:ext cx="1749240" cy="642600"/>
              <a:chOff x="3672000" y="3660120"/>
              <a:chExt cx="1749240" cy="642600"/>
            </a:xfrm>
          </p:grpSpPr>
          <p:sp>
            <p:nvSpPr>
              <p:cNvPr id="243" name=""/>
              <p:cNvSpPr/>
              <p:nvPr/>
            </p:nvSpPr>
            <p:spPr>
              <a:xfrm>
                <a:off x="3672000" y="3797280"/>
                <a:ext cx="1749240" cy="3747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72000" y="3660120"/>
                <a:ext cx="1749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Shared Sec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>
            <a:off x="1476360" y="3538440"/>
            <a:ext cx="216072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79640" y="3728880"/>
            <a:ext cx="1654200" cy="492120"/>
            <a:chOff x="1979640" y="3728880"/>
            <a:chExt cx="1654200" cy="492120"/>
          </a:xfrm>
        </p:grpSpPr>
        <p:sp>
          <p:nvSpPr>
            <p:cNvPr id="247" name=""/>
            <p:cNvSpPr/>
            <p:nvPr/>
          </p:nvSpPr>
          <p:spPr>
            <a:xfrm>
              <a:off x="1979640" y="3728880"/>
              <a:ext cx="1654200" cy="492120"/>
            </a:xfrm>
            <a:prstGeom prst="roundRect">
              <a:avLst>
                <a:gd name="adj" fmla="val 3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979640" y="3728880"/>
              <a:ext cx="1647720" cy="489240"/>
              <a:chOff x="1979640" y="3728880"/>
              <a:chExt cx="1647720" cy="489240"/>
            </a:xfrm>
          </p:grpSpPr>
          <p:sp>
            <p:nvSpPr>
              <p:cNvPr id="249" name=""/>
              <p:cNvSpPr/>
              <p:nvPr/>
            </p:nvSpPr>
            <p:spPr>
              <a:xfrm>
                <a:off x="1979640" y="3728880"/>
                <a:ext cx="1647720" cy="489240"/>
              </a:xfrm>
              <a:prstGeom prst="roundRect">
                <a:avLst>
                  <a:gd name="adj" fmla="val 32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79640" y="3789360"/>
                <a:ext cx="164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2- Write data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1519200" y="3289320"/>
            <a:ext cx="6264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794040" y="3321720"/>
            <a:ext cx="1782720" cy="368280"/>
            <a:chOff x="3794040" y="3321720"/>
            <a:chExt cx="1782720" cy="368280"/>
          </a:xfrm>
        </p:grpSpPr>
        <p:sp>
          <p:nvSpPr>
            <p:cNvPr id="253" name=""/>
            <p:cNvSpPr/>
            <p:nvPr/>
          </p:nvSpPr>
          <p:spPr>
            <a:xfrm>
              <a:off x="3794040" y="3448080"/>
              <a:ext cx="1782720" cy="122040"/>
            </a:xfrm>
            <a:prstGeom prst="roundRect">
              <a:avLst>
                <a:gd name="adj" fmla="val 131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794040" y="3321720"/>
              <a:ext cx="1776600" cy="368280"/>
              <a:chOff x="3794040" y="3321720"/>
              <a:chExt cx="1776600" cy="368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794040" y="3446640"/>
                <a:ext cx="1776600" cy="122040"/>
              </a:xfrm>
              <a:prstGeom prst="roundRect">
                <a:avLst>
                  <a:gd name="adj" fmla="val 1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794040" y="3321720"/>
                <a:ext cx="177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3- Data ready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"/>
          <p:cNvSpPr/>
          <p:nvPr/>
        </p:nvSpPr>
        <p:spPr>
          <a:xfrm flipV="1">
            <a:off x="4427640" y="4215960"/>
            <a:ext cx="1440" cy="11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300400" y="4749840"/>
            <a:ext cx="2047680" cy="368280"/>
            <a:chOff x="2300400" y="4749840"/>
            <a:chExt cx="2047680" cy="368280"/>
          </a:xfrm>
        </p:grpSpPr>
        <p:sp>
          <p:nvSpPr>
            <p:cNvPr id="259" name=""/>
            <p:cNvSpPr/>
            <p:nvPr/>
          </p:nvSpPr>
          <p:spPr>
            <a:xfrm>
              <a:off x="2300400" y="4875120"/>
              <a:ext cx="2047680" cy="122400"/>
            </a:xfrm>
            <a:prstGeom prst="roundRect">
              <a:avLst>
                <a:gd name="adj" fmla="val 131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2300400" y="4749840"/>
              <a:ext cx="2041560" cy="368280"/>
              <a:chOff x="2300400" y="4749840"/>
              <a:chExt cx="2041560" cy="368280"/>
            </a:xfrm>
          </p:grpSpPr>
          <p:sp>
            <p:nvSpPr>
              <p:cNvPr id="261" name=""/>
              <p:cNvSpPr/>
              <p:nvPr/>
            </p:nvSpPr>
            <p:spPr>
              <a:xfrm>
                <a:off x="2300400" y="4873680"/>
                <a:ext cx="2041560" cy="122040"/>
              </a:xfrm>
              <a:prstGeom prst="roundRect">
                <a:avLst>
                  <a:gd name="adj" fmla="val 1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300400" y="4749840"/>
                <a:ext cx="204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4- Replace data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 flipV="1">
            <a:off x="5454720" y="3596760"/>
            <a:ext cx="235728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796000" y="3723120"/>
            <a:ext cx="1576440" cy="642600"/>
            <a:chOff x="5796000" y="3723120"/>
            <a:chExt cx="1576440" cy="642600"/>
          </a:xfrm>
        </p:grpSpPr>
        <p:sp>
          <p:nvSpPr>
            <p:cNvPr id="265" name=""/>
            <p:cNvSpPr/>
            <p:nvPr/>
          </p:nvSpPr>
          <p:spPr>
            <a:xfrm>
              <a:off x="5796000" y="3936960"/>
              <a:ext cx="1576440" cy="21276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5796000" y="3723120"/>
              <a:ext cx="1569960" cy="642600"/>
              <a:chOff x="5796000" y="3723120"/>
              <a:chExt cx="1569960" cy="642600"/>
            </a:xfrm>
          </p:grpSpPr>
          <p:sp>
            <p:nvSpPr>
              <p:cNvPr id="267" name=""/>
              <p:cNvSpPr/>
              <p:nvPr/>
            </p:nvSpPr>
            <p:spPr>
              <a:xfrm>
                <a:off x="5796000" y="3936960"/>
                <a:ext cx="1569960" cy="20628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96000" y="3723120"/>
                <a:ext cx="15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5- Read data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 flipH="1" flipV="1">
            <a:off x="1466640" y="3072960"/>
            <a:ext cx="6283080" cy="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780000" y="2757600"/>
            <a:ext cx="2055600" cy="368280"/>
            <a:chOff x="3780000" y="2757600"/>
            <a:chExt cx="2055600" cy="368280"/>
          </a:xfrm>
        </p:grpSpPr>
        <p:sp>
          <p:nvSpPr>
            <p:cNvPr id="271" name=""/>
            <p:cNvSpPr/>
            <p:nvPr/>
          </p:nvSpPr>
          <p:spPr>
            <a:xfrm>
              <a:off x="3780000" y="2882880"/>
              <a:ext cx="2055600" cy="122400"/>
            </a:xfrm>
            <a:prstGeom prst="roundRect">
              <a:avLst>
                <a:gd name="adj" fmla="val 131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780000" y="2757600"/>
              <a:ext cx="2047680" cy="368280"/>
              <a:chOff x="3780000" y="2757600"/>
              <a:chExt cx="2047680" cy="368280"/>
            </a:xfrm>
          </p:grpSpPr>
          <p:sp>
            <p:nvSpPr>
              <p:cNvPr id="273" name=""/>
              <p:cNvSpPr/>
              <p:nvPr/>
            </p:nvSpPr>
            <p:spPr>
              <a:xfrm>
                <a:off x="3780000" y="2882880"/>
                <a:ext cx="2047680" cy="122400"/>
              </a:xfrm>
              <a:prstGeom prst="roundRect">
                <a:avLst>
                  <a:gd name="adj" fmla="val 1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80000" y="2757600"/>
                <a:ext cx="204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1- Send me data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earching for ho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3640" indent="-59364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Look for shared sections using Process Explorer, WinObj or ListSS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593640" indent="-593640">
              <a:lnSpc>
                <a:spcPct val="9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Attach a process using the shared section to a debugger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593640" indent="-593640">
              <a:lnSpc>
                <a:spcPct val="9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Run TestSS on shared section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593640" indent="-593640">
              <a:lnSpc>
                <a:spcPct val="9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Interact with process in order to make it use (read/write) the shared section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593640" indent="-593640">
              <a:lnSpc>
                <a:spcPct val="9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Look at debugger for crashes :)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earching for ho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47072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Windows HTML Help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emo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loi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47072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Elevating privileges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Reading data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ltering data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Shared section exploits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Using shared sections on virus/rootkits/etc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acking Shared S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9800" y="14475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3280" indent="-32328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Shared Section definition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Using Shared Section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Tool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Problem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Searching for hole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Exploitation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Microsoft vulnerabilitie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Other vendors vulnerabilitie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Solution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Reference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loi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470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Reading data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From high privileged processes (services)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From local logged on user processes, services and other sessions on Terminal Services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is leads to unauthorized access to data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loi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470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Altering data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On high privileged processes (services)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On local logged on user processes, services and other sessions on Terminal Services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is leads to arbitrary code execution, unauthorized access, processes or kernel crashing (DOS)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loi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47108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Shared section exploits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When overwriting shared section data allow us to take control of code execution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Some shared sections start addresses are pretty static on same OS and Service Pack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Put shellcode on shared section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Build exploit to jump to shellcode on shared section at static location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loi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47108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Shared section exploits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MS05-012 - COM Structured Storage Vulnerability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073160" indent="-228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Weak permission on shared section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2" marL="1073160" indent="-228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tructures saved on shared section can be overwriten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3" marL="1415880" indent="-22860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By overwriting these structures is possible to execute arbitrary code. 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073160" indent="-228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POC Exploit Demo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loi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4376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Using shared sections on virus/rootkits/etc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Some shared sections are used by many processes (InternatSHData used for Language Settings on W2k) others sections are used by all processes :)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Write code to shared section and the code will be instantly mapped on processes memory and also on new created processes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073160" indent="-228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Use SetThreadContext() or CreateRemoteThread() to start executing code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2" marL="1073160" indent="-228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imilar to WriteProcessMemory() - SetThreadContext() technique or DLL Injection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833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loi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4692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Using shared sections on virus/rootkits/etc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Some shared sections have execute access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073160" indent="-228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It would be possible to avoid WinXP sp2 NX and third party protections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7252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icrosoft vulnerabil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4692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Vulnerabilities on next Microsoft products have been reported and are being fixed: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Internet Explorer vulnerability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Office vulnerabilities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Windows 2k and Windows XP sp2 Kernel vulnerability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IIS 5 vulnerabiliity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Windows COM vulnerability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7252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ther vendors vulnerabil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4692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NOD32 antivirus vulnerability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Norton Antivirus (old versions) vulnerability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Veritas software vulnerabilities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Etc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7252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4692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Set proper permission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Set only current user (also service account if application running as service) permissions on shared sections unless another user should access them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Use some synchronization mechanism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Remember that when working with shared sections there isn't built in synchronization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Validate the data before using it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ata on shared sections can be easily manipulated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572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Windows and 3rd. party applications have a bunch of Shared Section related holes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These kind of holes will lead to new kind of attacks “SSAtacks” (Shared Section Attacks) ;)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Microsoft forgot to include a Shared Sections audit on the trustworthy computing initiative :)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Windows guts seem rotten:)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hared S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Basically a Shared Section is a portion of memory shared by a process, mostly used as an IPC (Inter Process Communication) mechanism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Shared Memory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File Mapping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Named or Unnamed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3280" indent="-32328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MSDN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Programming Applications for MS Windows - Fourth Edition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Process Explorer (</a:t>
            </a:r>
            <a:r>
              <a:rPr b="0" lang="en-GB" sz="25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ysinternals.com</a:t>
            </a: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WinObj (</a:t>
            </a:r>
            <a:r>
              <a:rPr b="0" lang="en-GB" sz="25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sysinternals.com</a:t>
            </a: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Rattle - Using Process Infection to Bypass Windows Software Firewalls (PHRACK #62)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Crazylord - Playing with Windows /dev/(k)mem (PHRACK #59)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23280" indent="-32328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http://www.microsoft.com/technet/security/bulletin/MS05-012.mspx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97000"/>
            <a:ext cx="82328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807920"/>
            <a:ext cx="8232840" cy="44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: cesar&gt;at&lt;argeniss&gt;dot&lt;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Argeniss – Information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Get vulnerability information before any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http://www.argeniss.com/servic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09520" y="210960"/>
            <a:ext cx="347040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sing Shared S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3640" y="1693800"/>
            <a:ext cx="85690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Loading binary images by OS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Process creation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ll loading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Mapping kernel mode memory into user address space !?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Used to avoid kernel transitions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Sharing data between processes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GDI and GUI data, pointers !?, counters, any data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sing Shared S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Creating a shared section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HANDLE 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CreateFileMapping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HANDLE hFile,                            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// handle to file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file mapping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                                                     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//or 0xFFFFFFFF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shared memory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LPSECURITY_ATTRIBUTES lpAttributes,               // security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WORD flProtect,                                                    // protect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WORD dwMaximumSizeHigh,              // high-order DWORD of siz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WORD dwMaximumSizeLow,              // low-order DWORD of siz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LPCTSTR lpName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                              // object name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named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                                                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//or NULL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unnamed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;//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returns a shared section handl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sing Shared S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Opening an existing shared section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HANDLE 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OpenFileMapping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DWORD dwDesiredAccess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,       // access mode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FILE_MAP_WRITE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                                  // 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FILE_MAP_READ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, etc.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BOOL bInheritHandle,                 // inherit flag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LPCTSTR lpName                    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// 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shared section nam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;//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returns a shared section handl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sing Shared S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4963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Mapping a shared section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LPVOID 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MapViewOfFile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HANDLE hFileMappingObject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,                // 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handle to created/opened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                                        // 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shared sect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DWORD dwDesiredAccess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,          // access mode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FILE_MAP_WRITE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                                      // 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FILE_MAP_READ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, etc.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WORD dwFileOffsetHigh,             // high-order DWORD of offse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WORD dwFileOffsetLow,              // low-order DWORD of offse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SIZE_T dwNumberOfBytesToMap  // number of bytes to map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; //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returns a pointer to begining of shared section memory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833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sing Shared S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4692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Ntdll.dll Native API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NtCreateSection()                Creates a new sect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NtOpenSection()                  Opens an existing sect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NtMapViewOfSection()        Map a section on memory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NtUnmapViewOfSection()   Unmap a section from memory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NtQuerySection()                Returns section siz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NtExtendSection()               Change section siz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833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sing Shared S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46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93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04040"/>
                </a:solidFill>
                <a:latin typeface="Arial"/>
              </a:rPr>
              <a:t>Mapping unnamed Shared Sections.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Need to know shared section handle on target process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Need permissions on target process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OpenProcess(PROCESS_DUP_HANDLE,...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uplicateHandle(...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MapViewOfFile(...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